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563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50C-3A28-4222-B0BA-4F6BB6A2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6DA4-026A-4F3D-91E2-2ED4DFAC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2850-46ED-4CE6-B2CF-E035C351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B1B-E4C8-440A-8674-1CD8C3C2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4C61-1198-4F78-999F-C04B9A00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D633-B74A-40ED-BB81-68739F7E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A29C-DA79-474F-AE72-431729BD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9A40-864B-4B2C-AA1B-F01EA96C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3D4E-DBAF-442A-9878-47B48D29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91ED-9570-4776-BCAF-F0C6522F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DC8D-F08D-4031-B4AA-74722CA8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62F-5D22-4D0B-8D87-77D41430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BBCE-5405-4A71-90E9-321BD3273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85800" y="533520"/>
            <a:ext cx="7696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LESS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33520" y="2362320"/>
            <a:ext cx="79246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NG and SUBTRAC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BRA 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add and subtract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838080" y="380880"/>
            <a:ext cx="7696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FRACTION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04920" y="1143000"/>
            <a:ext cx="8610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If subtraction ADD the OPPOSITE* Common Denominator                     or Cross Multi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5"/>
              <p:cNvSpPr txBox="1"/>
              <p:nvPr/>
            </p:nvSpPr>
            <p:spPr>
              <a:xfrm>
                <a:off x="609480" y="3352680"/>
                <a:ext cx="197496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Rectangle 6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add and subtract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7"/>
              <p:cNvSpPr txBox="1"/>
              <p:nvPr/>
            </p:nvSpPr>
            <p:spPr>
              <a:xfrm>
                <a:off x="2590920" y="3352680"/>
                <a:ext cx="971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762120" y="4800600"/>
                <a:ext cx="13716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2"/>
              <p:cNvSpPr txBox="1"/>
              <p:nvPr/>
            </p:nvSpPr>
            <p:spPr>
              <a:xfrm>
                <a:off x="2019240" y="4925880"/>
                <a:ext cx="190656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3"/>
              <p:cNvSpPr txBox="1"/>
              <p:nvPr/>
            </p:nvSpPr>
            <p:spPr>
              <a:xfrm>
                <a:off x="3962520" y="4905360"/>
                <a:ext cx="86976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4"/>
              <p:cNvSpPr txBox="1"/>
              <p:nvPr/>
            </p:nvSpPr>
            <p:spPr>
              <a:xfrm>
                <a:off x="4959360" y="4905360"/>
                <a:ext cx="7030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838080" y="380880"/>
            <a:ext cx="7696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DECIMAL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04920" y="1143000"/>
            <a:ext cx="8610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If subtraction ADD the OPPOSITE*  Line up the decimals                     and add or subtr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609480" y="3654360"/>
                <a:ext cx="19749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Rectangle 5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add and subtract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3200400" y="3200400"/>
                <a:ext cx="63648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eqArr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7"/>
              <p:cNvSpPr txBox="1"/>
              <p:nvPr/>
            </p:nvSpPr>
            <p:spPr>
              <a:xfrm>
                <a:off x="495360" y="5135400"/>
                <a:ext cx="19065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8"/>
              <p:cNvSpPr txBox="1"/>
              <p:nvPr/>
            </p:nvSpPr>
            <p:spPr>
              <a:xfrm>
                <a:off x="2975040" y="4876920"/>
                <a:ext cx="83484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eqArr>
                    <m:bar>
                      <m:barPr>
                        <m:pos m:val="bot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9"/>
              <p:cNvSpPr txBox="1"/>
              <p:nvPr/>
            </p:nvSpPr>
            <p:spPr>
              <a:xfrm>
                <a:off x="4341960" y="5181480"/>
                <a:ext cx="13730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1"/>
              <p:cNvSpPr txBox="1"/>
              <p:nvPr/>
            </p:nvSpPr>
            <p:spPr>
              <a:xfrm>
                <a:off x="4267080" y="3657600"/>
                <a:ext cx="8366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685800" y="533520"/>
            <a:ext cx="7696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Check for Understandi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09480" y="2133720"/>
            <a:ext cx="792504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 76 #6 – 9,           #12 – 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lease put in no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add and subtract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685800" y="533520"/>
            <a:ext cx="7696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Homework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85800" y="2133720"/>
            <a:ext cx="79246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 76 #17 – 22 (ALL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#24 – 34 (EVEN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 77 #39 – 45 (ALL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#46 – 54 (EVEN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add and subtract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3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JOURNA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04920" y="1600200"/>
            <a:ext cx="853416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will need to post this on the wiki website in the “Homework 9-16”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Tell me what you learned today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Explain to me the integer rules in your own word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 Did you like your 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esson online? Why or Why n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add and subtract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685800" y="533520"/>
            <a:ext cx="7696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NOT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57200" y="350532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subtraction AL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THE 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457200" y="23623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DD/SUBTRACT 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add and subtract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ease refer to the YouTube Video on the Wiki labeled “Number lin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457200" y="1752480"/>
            <a:ext cx="79246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arrows go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arrows go to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first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n arrow and count to get the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if Subtraction to ADD THE OPPO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685800" y="53352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NUMBER LIN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add and subtract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57200" y="1752480"/>
            <a:ext cx="79246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+ 5  =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4 + 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 – (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1 +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 –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+ -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– (-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"/>
          <p:cNvSpPr/>
          <p:nvPr/>
        </p:nvSpPr>
        <p:spPr>
          <a:xfrm>
            <a:off x="1371600" y="2438280"/>
            <a:ext cx="38088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685800" y="53352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NUMBER LIN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pic>
        <p:nvPicPr>
          <p:cNvPr id="55" name="Picture 6" descr="dy-number-line-09"/>
          <p:cNvPicPr/>
          <p:nvPr/>
        </p:nvPicPr>
        <p:blipFill>
          <a:blip r:embed="rId1"/>
          <a:stretch/>
        </p:blipFill>
        <p:spPr>
          <a:xfrm>
            <a:off x="1143000" y="5943600"/>
            <a:ext cx="6486480" cy="343080"/>
          </a:xfrm>
          <a:prstGeom prst="rect">
            <a:avLst/>
          </a:prstGeom>
          <a:ln w="0">
            <a:noFill/>
          </a:ln>
        </p:spPr>
      </p:pic>
      <p:sp>
        <p:nvSpPr>
          <p:cNvPr id="56" name="Line 7"/>
          <p:cNvSpPr/>
          <p:nvPr/>
        </p:nvSpPr>
        <p:spPr>
          <a:xfrm>
            <a:off x="4952880" y="5791320"/>
            <a:ext cx="14479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8"/>
          <p:cNvSpPr/>
          <p:nvPr/>
        </p:nvSpPr>
        <p:spPr>
          <a:xfrm>
            <a:off x="4876920" y="5715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2057400" y="2438280"/>
            <a:ext cx="380880" cy="68580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0"/>
          <p:cNvSpPr/>
          <p:nvPr/>
        </p:nvSpPr>
        <p:spPr>
          <a:xfrm>
            <a:off x="6172200" y="5638680"/>
            <a:ext cx="380880" cy="6858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add and subtract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457200" y="152388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GREEN is POSITIVE  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 is NEGATIVE 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ALGEBRA TI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" y="2971800"/>
            <a:ext cx="792468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1 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CELS ou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+ -1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add and subtract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3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ALGEBRA TI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57200" y="1447920"/>
            <a:ext cx="79246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+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2 + -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 – (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4 +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 –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+ -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– (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838080" y="5486400"/>
            <a:ext cx="3886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add and subtract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3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INTEGER RU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52280" y="1752480"/>
            <a:ext cx="86868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ubtrac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DD THE OPPO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SIG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dd the number and keep the same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IG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btract the numbers and keep the sign of the larger numb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add and subtract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685800" y="533520"/>
            <a:ext cx="7696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Check for Understandi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09480" y="2286000"/>
            <a:ext cx="79250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 76 #4, 5, 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lease put in no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add and subtract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20:53:54Z</dcterms:created>
  <dc:creator>rasmusa</dc:creator>
  <dc:description/>
  <dc:language>en-US</dc:language>
  <cp:lastModifiedBy>Owner</cp:lastModifiedBy>
  <dcterms:modified xsi:type="dcterms:W3CDTF">2010-09-16T01:05:04Z</dcterms:modified>
  <cp:revision>14</cp:revision>
  <dc:subject/>
  <dc:title>Slide 1</dc:title>
</cp:coreProperties>
</file>